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wmf" ContentType="image/x-wmf"/>
  <Override PartName="/ppt/media/image5.png" ContentType="image/png"/>
  <Override PartName="/ppt/media/image10.gif" ContentType="image/gif"/>
  <Override PartName="/ppt/media/image8.wmf" ContentType="image/x-wmf"/>
  <Override PartName="/ppt/media/image7.jpeg" ContentType="image/jpeg"/>
  <Override PartName="/ppt/media/image18.wmf" ContentType="image/x-wmf"/>
  <Override PartName="/ppt/media/image17.wmf" ContentType="image/x-wmf"/>
  <Override PartName="/ppt/media/image16.png" ContentType="image/png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15.wmf" ContentType="image/x-wmf"/>
  <Override PartName="/ppt/media/image4.gif" ContentType="image/gif"/>
  <Override PartName="/ppt/media/image9.jpeg" ContentType="image/jpeg"/>
  <Override PartName="/ppt/media/image11.jpeg" ContentType="image/jpeg"/>
  <Override PartName="/ppt/media/image6.wmf" ContentType="image/x-wmf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603C0-3779-4642-9984-F8374F4AF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AED17-308C-4D22-87BF-C0F5A4F5A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8E7DF-A2C8-4740-B127-8CF6492E0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167F0-E25C-48A6-A4B2-25BF1D4B4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7F417-6961-45E4-B1ED-39A446274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11E8C-6F16-46AE-AA6C-B2B0E2B94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2A338-D20B-4300-AB35-B6C4FC4F6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8645E-B2AF-4124-9AC7-5AA0CDCC6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643C6-5710-491E-ACC9-A3BAB2551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2E65B-66A7-4C85-8523-E92A857A2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8EB28-82C9-45AE-A475-7A3FEB25D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D870D-FF5A-44A6-9F99-84097CCDF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A4839-82EA-4E7E-9140-AEECD984D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23BA2-E255-487B-91C8-EF2F29505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6EDEA-7764-4A62-AF37-973B7A0CF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BED78-55DB-468E-B57B-D5EC8C8FC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40E47-686D-4097-A740-BAFDF3364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98C80-0500-4B18-BAF6-C26DF5B7E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C5388-E352-488C-ACAF-FF12403BF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A61F8-33EC-4CF7-8DDE-C3A6C466D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C6163-B6A1-468F-A703-1D2107DB0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8B1DE-AB33-4186-B396-BC6FCFF20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124FB-94BA-4F5E-9105-F39725FCB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E15A4-3AD5-425D-9805-8684994AC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5B5C4-5882-45E6-A6B0-97A7C6E72C2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956B8-A98A-42F9-BB7E-828B2921702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MSSN00821A0000%5B1%5D.wav" TargetMode="External"/><Relationship Id="rId2" Type="http://schemas.microsoft.com/office/2007/relationships/media" Target="file:///tmp/home/.config/libreoffice/4/user/gallery/MSSN00821A0000%5B1%5D.wav" TargetMode="External"/><Relationship Id="rId3" Type="http://schemas.openxmlformats.org/officeDocument/2006/relationships/image" Target="../media/image12.png"/><Relationship Id="rId4" Type="http://schemas.openxmlformats.org/officeDocument/2006/relationships/image" Target="../media/image13.wmf"/><Relationship Id="rId5" Type="http://schemas.openxmlformats.org/officeDocument/2006/relationships/image" Target="../media/image14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755e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gracia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84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Definition: a Spanish word for thank you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Base Word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ynonym: thank you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yllable: gra-ci-a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Antonym: your welcom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Inflection : ia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6019920" y="1906560"/>
            <a:ext cx="1836720" cy="7254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5867280" y="4267080"/>
            <a:ext cx="1820880" cy="1140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f00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Adio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84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Definition: a Spanish word for good buy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Base Word :adio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Inflection : o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ynonym: good by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yllable: A.di-o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Antonym: Hello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6032520" y="2319480"/>
            <a:ext cx="1714320" cy="10000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5959440" y="3957480"/>
            <a:ext cx="1865520" cy="1984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toryteller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84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Definition :A person that tells stori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Base word: story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Inflection: er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ynonym: reader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yllable : stor-y-tell.er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Antonyms: audienc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5999040" y="1927080"/>
            <a:ext cx="1785960" cy="178128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5649840" y="4572000"/>
            <a:ext cx="2122560" cy="1676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75752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glaring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84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Definition: To look at angrily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Base Word: glar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Inflection: 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ynonyms: stare madly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Antonyms: stare happily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yllable: glar-ing    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6000840" y="1884240"/>
            <a:ext cx="1779480" cy="18655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6529320" y="4340160"/>
            <a:ext cx="1008000" cy="1327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eager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84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Definition: excited and nervou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Base Word: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Inflection: er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ynonyms: really happy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yllables: ea-ger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Antonyms: really m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956200" y="1827360"/>
            <a:ext cx="2727360" cy="31701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7575"/>
            </a:gs>
            <a:gs pos="100000">
              <a:srgbClr val="00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hattered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84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Definition: to talk rapidly and foolishly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Base Word: Chatter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Inflection: e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yllable: chat-tere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Antonym: mut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724360" y="1827360"/>
            <a:ext cx="2329200" cy="19843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880240" y="3987720"/>
            <a:ext cx="2017440" cy="1925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cc"/>
            </a:gs>
            <a:gs pos="100000">
              <a:srgbClr val="75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borrow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84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Definition: To check out or to take with permission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Base Word :row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Inflection: row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ynonyms: len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yllable: bor-row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Antonyms: steal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5170320" y="2673360"/>
            <a:ext cx="3440160" cy="2422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Libro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84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cccc"/>
                </a:solidFill>
                <a:latin typeface="Verdana"/>
              </a:rPr>
              <a:t>Definition: A Spanish word for book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cccc"/>
                </a:solidFill>
                <a:latin typeface="Verdana"/>
              </a:rPr>
              <a:t>Base word: bro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cccc"/>
                </a:solidFill>
                <a:latin typeface="Verdana"/>
              </a:rPr>
              <a:t>Inflection: bro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Syllable: li.bro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Synonym: book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Antonym: magazine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6586560" y="1523880"/>
            <a:ext cx="1871640" cy="15811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6249960" y="3657600"/>
            <a:ext cx="1828800" cy="2284560"/>
          </a:xfrm>
          <a:prstGeom prst="rect">
            <a:avLst/>
          </a:prstGeom>
          <a:ln w="0">
            <a:noFill/>
          </a:ln>
        </p:spPr>
      </p:pic>
    </p:spTree>
  </p:cSld>
  <p:transition advTm="1000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313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6666"/>
                </a:solidFill>
                <a:latin typeface="Arial"/>
              </a:rPr>
              <a:t>Lap</a:t>
            </a:r>
            <a:endParaRPr b="0" lang="en-US" sz="6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33760" y="1523880"/>
            <a:ext cx="3809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1066320" y="1905120"/>
            <a:ext cx="409428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efinition : A </a:t>
            </a:r>
            <a:r>
              <a:rPr b="0" lang="en-US" sz="1800" spc="-1" strike="noStrike">
                <a:solidFill>
                  <a:srgbClr val="ff3300"/>
                </a:solidFill>
                <a:latin typeface="Verdana"/>
              </a:rPr>
              <a:t>flat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part of your legs when you sit dow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ase word :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yllable :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ntonyms: head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heck out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81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Definition : to take with permission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Base word :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yllable : check-out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ynonyms: borrow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0   Antonyms : stea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Inflection 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102280" y="1827360"/>
            <a:ext cx="3581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lap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81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Definition : To sip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Base word 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ynonym: drink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yllable 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Antonym : slurp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9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6248520" y="41911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4"/>
          <a:stretch/>
        </p:blipFill>
        <p:spPr>
          <a:xfrm>
            <a:off x="5410080" y="4343400"/>
            <a:ext cx="1457280" cy="18144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5"/>
          <a:stretch/>
        </p:blipFill>
        <p:spPr>
          <a:xfrm>
            <a:off x="6680160" y="1827360"/>
            <a:ext cx="2003400" cy="1604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19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19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633" fill="hold"/>
                                        <p:tgtEl>
                                          <p:spTgt spid="1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19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oosevelt3</cp:lastModifiedBy>
  <dcterms:modified xsi:type="dcterms:W3CDTF">2008-10-31T15:50:36Z</dcterms:modified>
  <cp:revision>22</cp:revision>
  <dc:subject/>
  <dc:title>PowerPoint Presentation</dc:title>
</cp:coreProperties>
</file>